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46D-C75E-49A9-9A0D-8A5FB908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9B1-1FA0-4999-8911-B4988293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931-0555-4AC6-AC1D-5A9709E8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C86-3B99-49A6-B43B-B07BA4AB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D76-0997-45CD-B01C-3F92AF36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68C-ACE1-4369-96B7-DEA5A93E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365-D823-40EF-AF91-93DB1CB6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E16-E086-472D-97E7-2616177D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8E7-F8A3-43D1-BD2B-58C33F40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8A4-5AC5-4ED2-9380-8E5741FF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0692-864B-42B1-AAAF-00BC35CA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D965-60D3-4D7B-A72C-9E26B9E9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FAF9-26E3-4D20-BEE9-3FEF3339A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7620120" cy="1428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εφαρμογή που χρησιμοποιήσαμε είναι το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. Είναι μια εφαρμογή η οποία χρησιμεύει στην σχεδίαση  κτηρίων σε μορφή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και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ρχικά φτιάξαμε έναν λογαριασμό  στην σελιδα https://planner5d.co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φού μας δόθηκε η έγκριση αρχίσαμε να φτιάχνουμε το κτήρι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ετά προσθέσαμε τα έπιπλα και στην συνέχεια βάλαμε πόρτες και τζάμια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έλος   σχεδιάσαμε τον εξωτερικό  χώρο και προσθέσαμε έπιπλα και φυσικά την πισίν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E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είναι πολύ  χρήσιμη εφαρμογή στο εκπαιδευτικό σύστημα . αφού μπορεί να χρησιμοποιηθεί στα μαθήματα που έχουν σχέση με το σχέδιο όπως το μαθημα επιλογής της β τάξης και Τα εικαστικά που διδάσκονται  σε όλες τις τάξεις του γυμνασίο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0:17:03Z</dcterms:created>
  <dc:creator>Μαθητής Β' Λυκείου</dc:creator>
  <dc:description/>
  <dc:language>en-US</dc:language>
  <cp:lastModifiedBy>Μαθητής Β' Λυκείου</cp:lastModifiedBy>
  <dcterms:modified xsi:type="dcterms:W3CDTF">2014-01-22T10:16:40Z</dcterms:modified>
  <cp:revision>6</cp:revision>
  <dc:subject/>
  <dc:title>Διαφάνεια 1</dc:title>
</cp:coreProperties>
</file>